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C67-BE5B-49A6-B350-AA71AB22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85FA-0CDF-4C77-8C40-BD863ABA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8420-F485-4A79-BAE3-18548B8CE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29B9-7723-4B12-9C89-4A2CDF0E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553D-6C81-47C9-A038-C604FEB9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F5F-6AFE-4ADB-849C-9E80B219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123-6BF5-4772-8F36-B3092DC0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4B6F-B21E-4344-AEA5-7B833683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8B74-9C94-4447-8A10-38A836E1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044-98F5-4BD9-A966-8F32FD4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20B-4929-442E-812F-6F038C58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371-C7F2-4C85-805B-BAE13554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38B-1A33-4854-8793-D043A12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D22-5902-48D5-831E-8823A5BB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6A4-8055-4584-80CB-9C33DAE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BC9-07BA-483C-82A9-8537D970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50A-1D8B-4463-A90F-95B7F800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66D-6E08-44B0-BD08-1F7FBB6F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EEC-BE70-40F0-8B20-E16AC85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910-3CF0-4CD6-BABB-4DAC365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602-1744-4A34-BDBA-404B0F3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8D0-8B91-4FA4-A1F5-13C846C61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lton (Tony) Earl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cipal Investigat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SE: Child Health and Soci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patial maps of homicide and low birth weight in 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Concept of “Collective Efficac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Measurement of Collective Efficac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llective Efficacy Across 343 Chicago Neighbor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Dimensions of social organization and funct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Interactions in families and communities in adolescent sexual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Significant outcomes from seeing Young Citizen skits i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1219320" y="6400800"/>
            <a:ext cx="6553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52900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533520" y="762120"/>
          <a:ext cx="4041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4041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4"/>
          <p:cNvSpPr/>
          <p:nvPr/>
        </p:nvSpPr>
        <p:spPr>
          <a:xfrm>
            <a:off x="268596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4724280" y="838080"/>
          <a:ext cx="36687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838080"/>
                    <a:ext cx="3668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Line 7"/>
          <p:cNvSpPr/>
          <p:nvPr/>
        </p:nvSpPr>
        <p:spPr>
          <a:xfrm>
            <a:off x="152280" y="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1219320" y="670572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33520" y="914400"/>
            <a:ext cx="39621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ot per homic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800600" y="990720"/>
            <a:ext cx="35812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ot equals 5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Spatial maps of homicide and low birth weight in Chica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90-19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407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“Collective Effic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s notions of trust and cohesion with shared expectations for intervening on behalf of commonly held goals (e.g., supervision/monitoring of childre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al rather than global—task-specific constru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not assume that strong ties are necessary precondition for social effi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s beyond stocks of “social capital” by incorporati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g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aking ac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066680" y="6019920"/>
            <a:ext cx="6553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97920" cy="68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easurement of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 Contr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- would neighbors take action i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skipping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spray-painting graffi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fighting in front of your 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 showing disrespect to ad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ty going to close down local library or fire 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 Cohesion/Tru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-kn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get alo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same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vise and care for childr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round here willing to help their neighbors</a:t>
            </a:r>
            <a:r>
              <a:rPr b="1" lang="en-US" sz="2600" spc="-1" strike="noStrike">
                <a:solidFill>
                  <a:srgbClr val="6845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143000" y="662940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oll_eff_map"/>
          <p:cNvPicPr/>
          <p:nvPr/>
        </p:nvPicPr>
        <p:blipFill>
          <a:blip r:embed="rId1"/>
          <a:stretch/>
        </p:blipFill>
        <p:spPr>
          <a:xfrm>
            <a:off x="5105520" y="304920"/>
            <a:ext cx="358596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380880"/>
            <a:ext cx="4953240" cy="1556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343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0920" y="2438280"/>
            <a:ext cx="39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Blue Are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d Are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w 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990720" y="63244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28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and informal soci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/Civic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generational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al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/moral cyn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of children as competen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52280" y="380880"/>
            <a:ext cx="8839440" cy="94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mens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organization and 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914400" y="60958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Interactions in families and communit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dolescent sexual initi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35880" y="22860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ve Effi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7084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33520" y="36576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mi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209320" y="2743200"/>
            <a:ext cx="20566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genera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dults know child’s frie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867280" y="5638680"/>
            <a:ext cx="2362320" cy="6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SEXUAL INTER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1720" y="2666880"/>
            <a:ext cx="11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ident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762120" y="4495680"/>
            <a:ext cx="106668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25680" y="4343400"/>
            <a:ext cx="1676520" cy="67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trust, shared val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80880" y="1447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345760" y="3429000"/>
            <a:ext cx="18615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e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willingness to interve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133720" y="2209680"/>
            <a:ext cx="220968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439720" y="144792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4648320" y="220968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64832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648320" y="3733920"/>
            <a:ext cx="190476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4648320" y="3048120"/>
            <a:ext cx="2057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not allowed to wa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572000" y="22860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ontact with child’s frie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7010280" y="2286000"/>
            <a:ext cx="1791000" cy="52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4800600" y="14479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220968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5791320" y="4952880"/>
            <a:ext cx="12189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4"/>
          <p:cNvSpPr/>
          <p:nvPr/>
        </p:nvSpPr>
        <p:spPr>
          <a:xfrm>
            <a:off x="7086600" y="4952880"/>
            <a:ext cx="1066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4721760" y="380988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otional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7086600" y="5181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5791320" y="5181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7012080" y="144792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L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7010280" y="2895480"/>
            <a:ext cx="179100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4343400" y="4114800"/>
            <a:ext cx="1752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4343400" y="4114800"/>
            <a:ext cx="30481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662940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6629400" y="3657600"/>
            <a:ext cx="1447920" cy="15238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533520" y="4495680"/>
            <a:ext cx="144756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57200" y="350532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 flipH="1">
            <a:off x="3733560" y="3505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533520" y="25146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1981080" y="5257800"/>
            <a:ext cx="3962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5334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0"/>
          <p:cNvSpPr/>
          <p:nvPr/>
        </p:nvSpPr>
        <p:spPr>
          <a:xfrm>
            <a:off x="1219320" y="6553080"/>
            <a:ext cx="65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Significant outcomes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ing Young Citizen skits i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Young adolescents c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e freely and openly with adults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 adults some scientific facts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as effective as adults in educating the community about HIV/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discrimination towards HIV positiv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Parents should tell children about their HIV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Efforts be made to keep AIDS orphans in the commun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838080" y="5867280"/>
            <a:ext cx="6553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4:57:54Z</dcterms:created>
  <dc:creator>MC20</dc:creator>
  <dc:description/>
  <dc:language>en-US</dc:language>
  <cp:lastModifiedBy> </cp:lastModifiedBy>
  <dcterms:modified xsi:type="dcterms:W3CDTF">2008-10-10T18:16:29Z</dcterms:modified>
  <cp:revision>5</cp:revision>
  <dc:subject/>
  <dc:title>Felton (Tony) Earls Principal Investigator CHASE</dc:title>
</cp:coreProperties>
</file>